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2.jpeg" ContentType="image/jpeg"/>
  <Override PartName="/ppt/media/image40.wmf" ContentType="image/x-wmf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48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30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7.wmf" ContentType="image/x-wmf"/>
  <Override PartName="/ppt/media/image15.jpeg" ContentType="image/jpeg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0.wmf" ContentType="image/x-wmf"/>
  <Override PartName="/ppt/media/image16.wmf" ContentType="image/x-wmf"/>
  <Override PartName="/ppt/media/image57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51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7.jpeg" ContentType="image/jpeg"/>
  <Override PartName="/ppt/media/image12.gif" ContentType="image/gif"/>
  <Override PartName="/ppt/media/image45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C96B-0619-4E5A-855E-70D71CF29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52C-51FE-4D42-93FD-C2C087F1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DA7-3BBB-40DA-BF6E-D598707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B3-2EE9-4ECA-B95A-C9E3BA2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687-00BD-48D5-8DA5-F7961F00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10F-982D-494C-97A3-625D0264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49C-4E13-4E93-938C-C08C07F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3C4-CFAE-4071-A1F2-EA39726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852-8B6A-4F36-9948-47416277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645-F822-4076-B307-6699B5D3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D2F-B1D4-4FDA-8BF5-DD2C0A7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869-9AE6-4341-B37B-00B1A7A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49F-C8FE-46A6-A4DD-DEFBD75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E46-2B5F-4B62-84CB-74459A7A8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" Target="slide4.xml"/><Relationship Id="rId5" Type="http://schemas.openxmlformats.org/officeDocument/2006/relationships/image" Target="../media/image1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4.xml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slide" Target="slide74.xml"/><Relationship Id="rId3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image" Target="../media/image33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33.wmf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7120" y="2133720"/>
          <a:ext cx="54403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2133720"/>
                    <a:ext cx="54403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59" name="j017262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6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765520" y="2800440"/>
          <a:ext cx="57229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5520" y="2800440"/>
                    <a:ext cx="57229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7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7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0" y="2666880"/>
          <a:ext cx="2819520" cy="113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666880"/>
                    <a:ext cx="28195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1841400" y="2133720"/>
          <a:ext cx="535320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1400" y="2133720"/>
                    <a:ext cx="53532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93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97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84400" y="2800440"/>
          <a:ext cx="5283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2800440"/>
                    <a:ext cx="5283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160" y="3132000"/>
          <a:ext cx="2720880" cy="11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" y="3132000"/>
                    <a:ext cx="27208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0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1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4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62120" y="2452680"/>
          <a:ext cx="7772400" cy="19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452680"/>
                    <a:ext cx="77724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25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29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3301920"/>
          <a:ext cx="2819520" cy="7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01920"/>
                    <a:ext cx="28195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95480" y="3019320"/>
          <a:ext cx="5486400" cy="101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3019320"/>
                    <a:ext cx="54864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4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4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7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14400" y="2521080"/>
          <a:ext cx="7467480" cy="18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21080"/>
                    <a:ext cx="746748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5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5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6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2906640"/>
          <a:ext cx="5486400" cy="12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906640"/>
                    <a:ext cx="54864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0" y="3230640"/>
          <a:ext cx="2819520" cy="71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30640"/>
                    <a:ext cx="2819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7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7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914400" y="2743200"/>
          <a:ext cx="7437600" cy="16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743760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8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9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95480" y="2889360"/>
          <a:ext cx="54864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89360"/>
                    <a:ext cx="5486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0" y="3046320"/>
          <a:ext cx="289548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6320"/>
                    <a:ext cx="28954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0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D05092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3646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8" name="BD05091_" descr=""/>
          <p:cNvPicPr/>
          <p:nvPr/>
        </p:nvPicPr>
        <p:blipFill>
          <a:blip r:embed="rId8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59" name="j0182990" descr=""/>
          <p:cNvPicPr/>
          <p:nvPr/>
        </p:nvPicPr>
        <p:blipFill>
          <a:blip r:embed="rId9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520" y="30477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Expressions and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130271" descr=""/>
          <p:cNvPicPr/>
          <p:nvPr/>
        </p:nvPicPr>
        <p:blipFill>
          <a:blip r:embed="rId10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565440" y="2798640"/>
          <a:ext cx="2133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2798640"/>
                    <a:ext cx="2133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2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2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60720" y="2666880"/>
          <a:ext cx="528336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60720" y="2666880"/>
                    <a:ext cx="528336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33520" y="2478240"/>
          <a:ext cx="2133360" cy="15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78240"/>
                    <a:ext cx="213336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3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4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4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341520" y="2798640"/>
          <a:ext cx="258300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2798640"/>
                    <a:ext cx="25830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5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5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984400" y="2800440"/>
          <a:ext cx="5283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2800440"/>
                    <a:ext cx="5283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28600" y="2478240"/>
          <a:ext cx="2583000" cy="15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478240"/>
                    <a:ext cx="25830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7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7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895480" y="1760400"/>
          <a:ext cx="4041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60400"/>
                    <a:ext cx="4041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384" name="" descr=""/>
            <p:cNvPicPr/>
            <p:nvPr/>
          </p:nvPicPr>
          <p:blipFill>
            <a:blip r:embed="rId5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87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91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259080" y="2798640"/>
          <a:ext cx="4732560" cy="15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9080" y="2798640"/>
                    <a:ext cx="473256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0" y="2513160"/>
          <a:ext cx="281952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13160"/>
                    <a:ext cx="281952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0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625840" y="2798640"/>
          <a:ext cx="4014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5840" y="2798640"/>
                    <a:ext cx="4014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1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2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314880" y="2800440"/>
          <a:ext cx="46227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800440"/>
                    <a:ext cx="46227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0" y="2927520"/>
          <a:ext cx="281952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27520"/>
                    <a:ext cx="28195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3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486160" y="2798640"/>
          <a:ext cx="42940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6160" y="2798640"/>
                    <a:ext cx="42940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4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5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765520" y="2800440"/>
          <a:ext cx="57229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5520" y="2800440"/>
                    <a:ext cx="57229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0" y="2995560"/>
          <a:ext cx="281952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95560"/>
                    <a:ext cx="2819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6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6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both s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t’s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n’t be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38" action="ppaction://hlinksldjump"/>
          </p:cNvPr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2438280" y="1752480"/>
          <a:ext cx="4373640" cy="31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752480"/>
                    <a:ext cx="43736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7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8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754440" y="2854440"/>
          <a:ext cx="374184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54440" y="2854440"/>
                    <a:ext cx="37418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0" y="2552760"/>
          <a:ext cx="2819520" cy="200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52760"/>
                    <a:ext cx="281952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9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9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0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03440" y="1816200"/>
          <a:ext cx="437364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1816200"/>
                    <a:ext cx="43736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0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1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084560" y="2854440"/>
          <a:ext cx="3081240" cy="14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4560" y="2854440"/>
                    <a:ext cx="30812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0" y="2023920"/>
          <a:ext cx="281952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023920"/>
                    <a:ext cx="281952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25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3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2503440" y="1968480"/>
          <a:ext cx="437364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1968480"/>
                    <a:ext cx="437364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3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4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0" y="2079720"/>
          <a:ext cx="2743200" cy="19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079720"/>
                    <a:ext cx="27432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5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6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401920" y="1816200"/>
          <a:ext cx="457848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1920" y="1816200"/>
                    <a:ext cx="45784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6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7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0" y="2166840"/>
          <a:ext cx="274320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66840"/>
                    <a:ext cx="27432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8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8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9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371680" y="1892160"/>
          <a:ext cx="4637160" cy="313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71680" y="1892160"/>
                    <a:ext cx="463716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00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0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04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819520" y="1523880"/>
            <a:ext cx="563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038480" y="1066680"/>
          <a:ext cx="320040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066680"/>
                    <a:ext cx="320040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0" y="2243160"/>
          <a:ext cx="2666880" cy="180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43160"/>
                    <a:ext cx="26668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1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2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1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"/>
          <p:cNvGraphicFramePr/>
          <p:nvPr/>
        </p:nvGraphicFramePr>
        <p:xfrm>
          <a:off x="1709640" y="2133720"/>
          <a:ext cx="561492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2133720"/>
                    <a:ext cx="56149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3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3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3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0" y="2916360"/>
          <a:ext cx="28195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16360"/>
                    <a:ext cx="2819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47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5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057400" y="1752480"/>
          <a:ext cx="513396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752480"/>
                    <a:ext cx="51339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819520" y="3886200"/>
            <a:ext cx="4181400" cy="2233440"/>
            <a:chOff x="2819520" y="3886200"/>
            <a:chExt cx="4181400" cy="2233440"/>
          </a:xfrm>
        </p:grpSpPr>
        <p:pic>
          <p:nvPicPr>
            <p:cNvPr id="661" name="" descr=""/>
            <p:cNvPicPr/>
            <p:nvPr/>
          </p:nvPicPr>
          <p:blipFill>
            <a:blip r:embed="rId5"/>
            <a:stretch/>
          </p:blipFill>
          <p:spPr>
            <a:xfrm>
              <a:off x="3581640" y="38862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 txBox="1"/>
            <p:nvPr/>
          </p:nvSpPr>
          <p:spPr>
            <a:xfrm>
              <a:off x="2819520" y="45720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64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6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68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0" y="2813040"/>
          <a:ext cx="281952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13040"/>
                    <a:ext cx="28195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8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8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490760" y="2133720"/>
          <a:ext cx="60544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0760" y="2133720"/>
                    <a:ext cx="60544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9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9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9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0" y="2816280"/>
          <a:ext cx="2895480" cy="104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16280"/>
                    <a:ext cx="28954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1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1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1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227240" y="2133720"/>
          <a:ext cx="658152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7240" y="2133720"/>
                    <a:ext cx="6581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2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2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2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3700440" y="2854440"/>
          <a:ext cx="38512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0440" y="2854440"/>
                    <a:ext cx="3851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3129120"/>
          <a:ext cx="2895480" cy="96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9120"/>
                    <a:ext cx="28954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4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4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249200" y="2133720"/>
          <a:ext cx="653760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9200" y="2133720"/>
                    <a:ext cx="6537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5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5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700440" y="2800440"/>
          <a:ext cx="38512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0440" y="2800440"/>
                    <a:ext cx="38512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0" y="2919240"/>
          <a:ext cx="281952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19240"/>
                    <a:ext cx="2819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71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7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7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2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2" name=""/>
          <p:cNvGraphicFramePr/>
          <p:nvPr/>
        </p:nvGraphicFramePr>
        <p:xfrm>
          <a:off x="2565360" y="2809800"/>
          <a:ext cx="390384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65360" y="2809800"/>
                    <a:ext cx="39038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86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88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90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0" y="3049560"/>
          <a:ext cx="281952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9560"/>
                    <a:ext cx="2819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0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8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666880" y="2514600"/>
          <a:ext cx="38610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514600"/>
                    <a:ext cx="3861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1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1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2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4249800" y="2800440"/>
          <a:ext cx="2751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9800" y="2800440"/>
                    <a:ext cx="2751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0" y="3135240"/>
          <a:ext cx="274320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35240"/>
                    <a:ext cx="27432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3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3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3575160" y="2176560"/>
          <a:ext cx="188568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5160" y="2176560"/>
                    <a:ext cx="188568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4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5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4194000" y="2800440"/>
          <a:ext cx="2862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4000" y="2800440"/>
                    <a:ext cx="2862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85800" y="2514600"/>
          <a:ext cx="1886040" cy="20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2514600"/>
                    <a:ext cx="18860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6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6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70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2982960" y="2176560"/>
          <a:ext cx="307008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2176560"/>
                    <a:ext cx="307008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7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8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8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4470480" y="1865160"/>
          <a:ext cx="2311200" cy="34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0480" y="1865160"/>
                    <a:ext cx="23112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380880" y="2514600"/>
          <a:ext cx="2438640" cy="16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14600"/>
                    <a:ext cx="24386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9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9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565360" y="2176560"/>
          <a:ext cx="390384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2176560"/>
                    <a:ext cx="39038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0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1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1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4579920" y="2854440"/>
          <a:ext cx="20908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9920" y="2854440"/>
                    <a:ext cx="20908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0" y="2639880"/>
          <a:ext cx="281952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9880"/>
                    <a:ext cx="281952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2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3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6" name=""/>
          <p:cNvGraphicFramePr/>
          <p:nvPr/>
        </p:nvGraphicFramePr>
        <p:xfrm>
          <a:off x="3465360" y="2809800"/>
          <a:ext cx="210528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5360" y="2809800"/>
                    <a:ext cx="21052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40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4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44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4249800" y="2800440"/>
          <a:ext cx="2751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9800" y="2800440"/>
                    <a:ext cx="2751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533520" y="2971800"/>
          <a:ext cx="210492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971800"/>
                    <a:ext cx="2104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5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6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6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462480" y="2352600"/>
          <a:ext cx="263196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2480" y="2352600"/>
                    <a:ext cx="26319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7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7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7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029120" y="2800440"/>
          <a:ext cx="319248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2800440"/>
                    <a:ext cx="319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228600" y="2895480"/>
          <a:ext cx="2631960" cy="8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895480"/>
                    <a:ext cx="263196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8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9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916360" y="2700360"/>
          <a:ext cx="320328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700360"/>
                    <a:ext cx="32032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0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0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0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4305240" y="2854440"/>
          <a:ext cx="26416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5240" y="2854440"/>
                    <a:ext cx="26416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152280" y="3200400"/>
          <a:ext cx="2590920" cy="84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200400"/>
                    <a:ext cx="25909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1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2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2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2960640" y="2809800"/>
          <a:ext cx="311472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0640" y="2809800"/>
                    <a:ext cx="3114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3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3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3533760" y="2800440"/>
          <a:ext cx="418320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3760" y="2800440"/>
                    <a:ext cx="41832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28600" y="3200400"/>
          <a:ext cx="2590920" cy="69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0400"/>
                    <a:ext cx="2590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4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5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2389320" y="2700360"/>
          <a:ext cx="425592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2700360"/>
                    <a:ext cx="425592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6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6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4305240" y="2854440"/>
          <a:ext cx="26416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5240" y="2854440"/>
                    <a:ext cx="26416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52280" y="3135240"/>
          <a:ext cx="2667240" cy="6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135240"/>
                    <a:ext cx="26672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7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8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4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8" name=""/>
          <p:cNvGraphicFramePr/>
          <p:nvPr/>
        </p:nvGraphicFramePr>
        <p:xfrm>
          <a:off x="1295280" y="2390760"/>
          <a:ext cx="6782040" cy="20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90760"/>
                    <a:ext cx="678204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9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9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"/>
          <p:cNvGraphicFramePr/>
          <p:nvPr/>
        </p:nvGraphicFramePr>
        <p:xfrm>
          <a:off x="0" y="3048120"/>
          <a:ext cx="28195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8120"/>
                    <a:ext cx="2819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10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1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31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33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3520" y="1295280"/>
            <a:ext cx="8001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5 – Septembe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d macros and visual basic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5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0-07T14:55:59Z</dcterms:modified>
  <cp:revision>205</cp:revision>
  <dc:subject/>
  <dc:title>PowerPoint Presentation</dc:title>
</cp:coreProperties>
</file>